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02F-19D3-4E5E-9D26-BC86D6D2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2DD-AA7E-4766-85C6-DDBE4651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435-80C0-4CD9-B8BB-6BB3BE0D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031-ACCA-47CC-9550-8515FC71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605-1952-41C1-A1AC-F2C4165D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C1E-9D74-4A98-9B35-C3530E38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1DA-D827-426B-9316-41715F12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4DA-D30E-4DE6-BE2E-AADC09D4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2C1-3CF3-441A-B613-8A93D2BA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D90-EB31-4011-A2B1-0C2F214E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F14-2319-4244-86A8-816CD2C0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600-7251-4D8C-A9E1-008799BD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62CB-0720-457C-8DF4-33AC4C53F6A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Didática? Didáticas? Qual Didátic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520" y="3885840"/>
            <a:ext cx="764388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898989"/>
                </a:solidFill>
                <a:latin typeface="Calibri"/>
              </a:rPr>
              <a:t>In: </a:t>
            </a: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FARIAS, Isabel M. S. de. (</a:t>
            </a:r>
            <a:r>
              <a:rPr b="0" i="1" lang="pt-BR" sz="2400" spc="-1" strike="noStrike">
                <a:solidFill>
                  <a:srgbClr val="898989"/>
                </a:solidFill>
                <a:latin typeface="Calibri"/>
              </a:rPr>
              <a:t>et al.</a:t>
            </a: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). </a:t>
            </a:r>
            <a:r>
              <a:rPr b="1" lang="pt-BR" sz="2400" spc="-1" strike="noStrike">
                <a:solidFill>
                  <a:srgbClr val="898989"/>
                </a:solidFill>
                <a:latin typeface="Calibri"/>
              </a:rPr>
              <a:t>Didática e Docência:</a:t>
            </a: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 aprendendo a profissão. Brasília: Liber Livro,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entrou-se na transmissão de normas e regras do “bem fazer”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adronizou-se as ações didáticas, com uma única lógica de ver e estar no mundo: o pensamento liberal sobre a sociedade, a educação, a escola, o aluno e a aprendizag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edomínio de práticas pedagógicas tradicionais da Igreja e da Ciência Positivis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ssimilação por repetição passiva da cultura do dominador pelos domin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eóricos franceses crítico-reprodutivistas: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Bourdieu e Passeron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lthusser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, denunciam a educação e a escola como espaços de reprodução e preservação das relações de dominação e transmissão da ideologia e da cultura so sistema social capitalis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ocaram em questão as ações educativas e a Didática e os cursos de formação de profess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No Brasil, nos anos 70, reina a “antididática”, a negação do tecnicismo e de tudo que era técnico e a afirmação do 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proximação da Didática com a Filosofia e com a Sociologia da Educ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Uma terceira possibilidade teórica: A Didática Crítica,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“o momento da síntese ou da negação da negação”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(CANDAU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apud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ARIAS, p. 19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nos 80: processo de redemocratização do país e de mudanças na educação e na Didá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números encontros, conferências e movimentos da sociedade civil em defesa da democracia também nas institições sociais, principalmente nas escolas, como meio de transformação soc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urge a proposta da Pedagogia Histórico-Crítica e outras Tendências Progressi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Didática crí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obrepõe o que é fundamental no ato educativo: ação pedagógica como prática social; a multidimensionalidade do processo de ensino e de aprendizagem; a subordinação do </a:t>
            </a:r>
            <a:r>
              <a:rPr b="1" i="1" lang="pt-BR" sz="3000" spc="-1" strike="noStrike">
                <a:solidFill>
                  <a:srgbClr val="000000"/>
                </a:solidFill>
                <a:latin typeface="Calibri"/>
              </a:rPr>
              <a:t>o que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do  </a:t>
            </a:r>
            <a:r>
              <a:rPr b="1" i="1" lang="pt-BR" sz="3000" spc="-1" strike="noStrike">
                <a:solidFill>
                  <a:srgbClr val="000000"/>
                </a:solidFill>
                <a:latin typeface="Calibri"/>
              </a:rPr>
              <a:t>como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 fazer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1" i="1" lang="pt-BR" sz="3000" spc="-1" strike="noStrike">
                <a:solidFill>
                  <a:srgbClr val="000000"/>
                </a:solidFill>
                <a:latin typeface="Calibri"/>
              </a:rPr>
              <a:t>para que 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fazer;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 competência técnica a serviço do compromisso político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Uma didática que concebe os professores como sujeitos que aprendem uma profissão e se fazem profissionais à medida que aprendem ensinan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82296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or uma Didática crítica e contextualiza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idática é teoria e prática do ensino, conjugando fins e meios; propósitos e ações; objetivos, conteúdo e form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titude teórica e prátic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cesso, movimento e trajetóri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onstrução individual e coletiva nos cursos de formação e na escol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Reconhece os professores como sujeitos criativos, reflexivos e políticos; autores e produtores e não meros expectadores da história e consumidores de técnicas de última gera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Das relações entre Educação, Pedagogia e Didá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Educaçã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odas as práticas formativas, pe um fenômeno social, histórico, dinâmico e político; processo simbólico, intencional ou não, acontece em diferentes espaços e de variadas formas; pode ocorrer de forma espontânea ou planeja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ode apresentar duas funções: adaptação ou transformação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edag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Reflexão sistemática, problematizadora da totalidade da prática educativ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iência da Educação que busca descrevê-la, explicá-la e compreendê-l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Did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Uma disciplina pedagógica que estuda os múltiplos aspectos do processo de ensi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livro é destinado a professores em processo de formação, com experiência ou nã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rata de questões que permeiam o fazer docente na Educação Básic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rientação visa propiciar subsídios teóricos e metodológicos  sobre o ensin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ela articulação entre seus pressupostos, seus determinantes sociais e seus modos de realizãçã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Ensino é palavra-ação, palavra-prospectiva, palavra- compartilhad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Espaço Reservado para Conteúdo 6" descr=""/>
          <p:cNvPicPr/>
          <p:nvPr/>
        </p:nvPicPr>
        <p:blipFill>
          <a:blip r:embed="rId1"/>
          <a:stretch/>
        </p:blipFill>
        <p:spPr>
          <a:xfrm>
            <a:off x="353880" y="1000080"/>
            <a:ext cx="86011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Intenção de assegurar conhecimentos pedagógicos básicos, numa abordagem crítica e contextualizada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O fazer docente é uma atividade que exige rumo e partilha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Necessidade de ruptura com visões fragmentadas do trabalho do professor e de assunção do papel de sujeito em seu desenvolvimento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o professor se constitui, se produz, por meio das relações que estabelece com o mundo físico e social, sua identidade se articula a um dado espaço-tempo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o seu fazer é entendido como prática situada e ética, cujas decisões traduzem uma intencionalidade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spaço Reservado para Conteúdo 3" descr=""/>
          <p:cNvPicPr/>
          <p:nvPr/>
        </p:nvPicPr>
        <p:blipFill>
          <a:blip r:embed="rId1"/>
          <a:stretch/>
        </p:blipFill>
        <p:spPr>
          <a:xfrm>
            <a:off x="457200" y="560520"/>
            <a:ext cx="822960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OS PRECURSORES DA DIDÁ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datas do século XVII: se preocuparam em sistematizar princípios de condução do ato educativ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especial João Amos Comênio (1592-1670), o pai da Didática: formulou princípios racionalistas, com base na ciência moder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principal obra: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Didática Magna: a arte de ensinar tudo a todos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, foi o pilar da educação para a vitória da reforma protest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éculo XVIII, Jean Jacques Rousseau (1712-1778) revoluciona a Didá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bras: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O Contrato Social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O Emílio (ou da Educação).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presentou outro conceito de infância – a criança boa por naturez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efendeu uma educação livre, espontânea e natural. Sem precocidade e pretensões de modelar a criança para fins sociais futur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Johann Friedrich Herbart (1776-1841) também contribuiu para a Didática, criando um método de ensino fundamentado em cinco passos regulados pelo mestre: preparação, apresentação, comparação-assimilação, generalização e aplica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A constituição da Didática como Discipli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rasil: a Didática foi instituída como curso de licenciatura (1939) e transformada em uma disciplina dos cursos de formação de professores (1946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nfoque prescritivo, normativo e instrumental: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“momento da afirmação do técnico e o silenciar do político”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(CANDAU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apud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ARIAS, p. 1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Reduziu-se ao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“COMO ensinar”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stema</cp:lastModifiedBy>
  <dcterms:modified xsi:type="dcterms:W3CDTF">2010-06-28T23:44:26Z</dcterms:modified>
  <cp:revision>25</cp:revision>
  <dc:subject/>
  <dc:title>Didática? Didáticas? Qual Didática?</dc:title>
</cp:coreProperties>
</file>